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8C2B1-379E-4D9B-81A8-FC0A1255C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09A92-F2B6-4913-A270-2323BF053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66D3A-5E40-4795-B25B-0C4A7793F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22F02-238A-4C74-9935-4D5C92F752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9636D-5F47-4E33-A520-CBC9F676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E2D37-DC92-4AD2-9360-BA6CE88F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ECA90-E0A1-4060-BA2F-F89887F8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4179C-7C3F-4D1C-B0FA-28BD9C16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6F90F-0FB2-4C0A-88BC-24A80396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B413F-7BD2-4F95-8D3D-5878D2A3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0EFD4-A6CD-442E-B56A-524C335F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00A6D-26E7-4667-9F29-D95A7F07B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D2EC0-40E4-4327-AC3D-AF8A3CC6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25FA3-238B-44CE-9567-F8654E63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3EC5D-85C2-44CE-9A31-49C9E760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E5085-FA52-45AB-9AD2-20FA0744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3FA00-D7D9-4347-B6CC-98CEBA59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C7CE1-E857-446E-99CF-EEFB5E274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ED4D8-0411-450A-BEA5-08DACDC8B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7F91B-92E3-4DFA-96FD-4DE399713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42643-0726-424D-BA5B-28058705D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7B758-F738-4E8B-980D-568D4F46D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AB065-59BF-4FFB-9BD7-198B6D6C7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C09B4-D3AC-48FA-A3CF-FFD6F9B09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 rot="16200000">
            <a:off x="-1218960" y="5181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d4d4d"/>
                </a:solidFill>
                <a:latin typeface="Tahoma"/>
              </a:rPr>
              <a:t>&lt;footer&gt;</a:t>
            </a:r>
            <a:r>
              <a:rPr b="0" lang="de-DE" sz="1400" spc="-1" strike="noStrike">
                <a:solidFill>
                  <a:srgbClr val="4d4d4d"/>
                </a:solidFill>
                <a:latin typeface="Tahoma"/>
              </a:rPr>
              <a:t>© Peter Jungbau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F1A2-888F-4E0A-8473-027E9D3ACF72}" type="slidenum">
              <a:rPr b="0" lang="en-US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25A4-811A-4B85-87DC-5B3031131083}" type="slidenum">
              <a:rPr b="0" lang="en-US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4d4d4d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4d4d4d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4d4d4d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d4d4d"/>
                </a:solidFill>
                <a:latin typeface="Tahoma"/>
              </a:rPr>
              <a:t>Psychiatrische Notfälle</a:t>
            </a: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5027760" y="2720880"/>
            <a:ext cx="4114800" cy="4132440"/>
          </a:xfrm>
          <a:prstGeom prst="diamond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aramond"/>
              </a:rPr>
              <a:t>Peter Jungbauer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aramond"/>
              </a:rPr>
              <a:t>Österr. Rotes Kreuz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aramond"/>
              </a:rPr>
              <a:t>Landesverband Wie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Selbstmord</a:t>
            </a:r>
            <a:br>
              <a:rPr sz="4200"/>
            </a:b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erwünschter tödlicher Ausgang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Selbstschutz!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Sicherung der Vitalfunktionen (auch bei schriftlichem Sterbewunsch und Ablehnung ärztlicher Behandlung)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Therapie nach Art der Schädigung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Verhinderung suizidaler Handlungen („talk down“), ggf. auch mit Gewalt (Polizei)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Nicht moralisieren! Keine Schuldgefühle verstärken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ggf. Sedierung (Gewacalm)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Unterbringung in psychiatrischem Krankenhaus meist unumgänglich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2D8F5-0A05-41A0-A31D-2AA88DE3ED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Definition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Akute, schwerwiegende Störung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des Denkens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der Stimmung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des Verhaltens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der sozialen Beziehung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bewirkt eine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lbstgefährdung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remdgefährdung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97170-E399-484B-819A-840BCE0080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Ursachen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6240" y="198108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Depression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Mani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Schizophrenie (Spaltungsirresein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Paranoia (Wahnvorstellungen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Angst, Panik, Hysteri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280" y="1981080"/>
            <a:ext cx="3848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Intoxikation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Infektion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Suchtkrankheit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Stoffwechselentgleisung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Cerebrale Durchblutungsstörung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DE96F-F7EF-404D-9941-34F8A6225D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Akute Erregungszustände</a:t>
            </a:r>
            <a:br>
              <a:rPr sz="4200"/>
            </a:br>
            <a:r>
              <a:rPr b="0" lang="en-US" sz="3200" spc="-1" strike="noStrike">
                <a:solidFill>
                  <a:srgbClr val="4d4d4d"/>
                </a:solidFill>
                <a:latin typeface="Tahoma"/>
              </a:rPr>
              <a:t>Symptome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Erregung mit Bewegungsdrang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gezielte Aggression bis blindwütiges Toben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oft unvorhersehbares Auftreten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Wechsel von Ruhe und Erregung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wirres Reden, Gedankensprünge, Wahnideen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oft gesteigertes Selbstwertgefüh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Bewußtseinsstörungen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ggf. vegetative Begleitsymptom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614C4-10DB-42B4-B8B5-7447EC393E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Akute Erregungszustände</a:t>
            </a:r>
            <a:br>
              <a:rPr sz="4200"/>
            </a:br>
            <a:r>
              <a:rPr b="0" lang="en-US" sz="3200" spc="-1" strike="noStrike">
                <a:solidFill>
                  <a:srgbClr val="4d4d4d"/>
                </a:solidFill>
                <a:latin typeface="Tahoma"/>
              </a:rPr>
              <a:t>Diagnostik und Therapie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Diagnostik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Anamnese (Medikamente, Rauschmittel, psych. Erkrankungen, St.p.SHT)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Puls, Blutdruck, Blutzucker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Therapie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Versuch, auf den Patienten einzugehen,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bestimmter, aber freundlicher Umgang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Beruhigung durch „talk down“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Beobachten! Jederzeit auf Aggression gefaßt sein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Wenn notwendig: Polizei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Bei Gefährdung ev. Sedierung (Gewacalm, Psychopax)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BCD62-03F8-4214-9E24-7D1034FDBD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Depression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Symptome: </a:t>
            </a:r>
            <a:br>
              <a:rPr sz="2400"/>
            </a:b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Traurigkeit, Selbstmitleid, Niedergeschlagenheit, </a:t>
            </a:r>
            <a:br>
              <a:rPr sz="2000"/>
            </a:b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evtl. Projektion auf körperliche Symptome, </a:t>
            </a:r>
            <a:br>
              <a:rPr sz="2000"/>
            </a:b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Vermeidung von Blickkontakt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Ursachen: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27920" indent="-280080">
              <a:spcBef>
                <a:spcPts val="675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d4d4d"/>
                </a:solidFill>
                <a:latin typeface="Tahoma"/>
              </a:rPr>
              <a:t>Psychosoziale Faktoren:</a:t>
            </a: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 </a:t>
            </a:r>
            <a:br>
              <a:rPr sz="2000"/>
            </a:b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Trauer, kritische Lebensereignisse, Persönlichkeitskris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1" marL="727920" indent="-280080">
              <a:spcBef>
                <a:spcPts val="675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d4d4d"/>
                </a:solidFill>
                <a:latin typeface="Tahoma"/>
              </a:rPr>
              <a:t>somatogen:</a:t>
            </a: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 </a:t>
            </a:r>
            <a:br>
              <a:rPr sz="2000"/>
            </a:b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infolge  körperlicher Erkrankungen, genetische Disposition, altersbedingt, Pharmaka, Neuros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spcBef>
                <a:spcPts val="1125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Therapie:</a:t>
            </a:r>
            <a:br>
              <a:rPr sz="2400"/>
            </a:b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Ausschaltung evtl. einwirkender Gifte od. depressionsauslösender Medikamente, Behandlung der Grundkrankheit, ggf. vorsichtig dosiert Antidepressiva, Neuroleptika, Psychotherapi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E860F-38D4-4D81-B2AC-BA93F6096A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4d4d4d"/>
                </a:solidFill>
                <a:latin typeface="Tahoma"/>
              </a:rPr>
              <a:t>Psychosozialer Notdiens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Für Patienten mit </a:t>
            </a:r>
            <a:r>
              <a:rPr b="1" lang="de-DE" sz="2400" spc="-1" strike="noStrike">
                <a:solidFill>
                  <a:srgbClr val="4d4d4d"/>
                </a:solidFill>
                <a:latin typeface="Tahoma"/>
              </a:rPr>
              <a:t>ausschließlich</a:t>
            </a: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 psychischen Problemen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Nicht bei vitaler Gefährdung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Besonders für Patienten mit Angst vor Psychiatrischem Krankenhau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nachts: Psychosozialer Notdienst</a:t>
            </a:r>
            <a:br>
              <a:rPr sz="2400"/>
            </a:b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1090 Wien, Fuchsthalergasse 8 (hinter Volksoper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tagsüber: PSD-Sprenge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0D1D8-4B62-405C-95CC-D1A3015439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4d4d4d"/>
                </a:solidFill>
                <a:latin typeface="Tahoma"/>
              </a:rPr>
              <a:t>Suizidgefahr - Suizidalität </a:t>
            </a:r>
            <a:br>
              <a:rPr sz="4200"/>
            </a:br>
            <a:r>
              <a:rPr b="0" lang="de-DE" sz="4200" spc="-1" strike="noStrike">
                <a:solidFill>
                  <a:srgbClr val="4d4d4d"/>
                </a:solidFill>
                <a:latin typeface="Tahoma"/>
              </a:rPr>
              <a:t>Praesuizidales Syndrom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Einengung der Gefühlswelt (Depression),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der Werte, der Beziehungen, der Gedanken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Irrealität des Denken (Selbstmordphantasien)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Aggression kann nicht ausgelebt werden (Aggressionshemmung). Aggression richtet sich dann gegen Patienten, u.U. aber auch gegen andere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E69F0-22A8-4701-9E13-90E9C5D296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Selbstmordversuch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Ein Versuch, die Umwelt zu alarmieren, zu schrecken, zu demütigen, auf Probleme aufmerksam zu machen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15360" indent="-31536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Meist so geplant, daß er nicht lebensbedrohlich sein kann oder zwangsläufig rechtzeitig erkannt wird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1536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Maßnahmen: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4572000"/>
            <a:ext cx="769644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Adäquate medizinische Versorgung - eine mögliche Vitalbedrohung ist als „Unfall“ anzusehe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7438B-E9A4-4ECA-BE5A-B7A7277905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16:47:29Z</dcterms:created>
  <dc:creator>Peter Jungbauer</dc:creator>
  <dc:description/>
  <dc:language>en-US</dc:language>
  <cp:lastModifiedBy>Peter Jungbauer</cp:lastModifiedBy>
  <dcterms:modified xsi:type="dcterms:W3CDTF">1999-01-30T11:38:22Z</dcterms:modified>
  <cp:revision>13</cp:revision>
  <dc:subject/>
  <dc:title>Neurologische Notfäl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igentümer">
    <vt:lpwstr>Peter Jungbauer</vt:lpwstr>
  </property>
</Properties>
</file>