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BF49-549F-427A-B293-5AB0C6CE8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AB81-5D5C-4A36-8645-97712A348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8E41-BC42-43FE-8D91-21DE65B41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DC31-6A63-4ABC-8B30-F1A8A68DD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8EBBB-5E46-4F75-8BAD-5AAC1693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4BBA-EBA3-46AD-B0C1-76605F4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B28FC-C49C-400E-873E-0E2539BA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9A3B0-F96E-447F-9E26-1581C224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8DBF9-D3F9-4DE5-8E04-7222BD79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9716-6FA2-43AA-9993-F9A5804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7AD5F-FB63-4E2A-B36F-E87B3F8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5C12-06BF-4090-A86C-BE1E83A2D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8857-C325-45EC-8AEB-A62220D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74394-AA4F-47EA-BA7A-1FE753B6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C173D-F139-4484-8F6C-2AC4267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02D70-1CA9-4269-948E-3ED55DDF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A33A8-5603-49F6-BDD4-C151ACC8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62FA-161E-485D-AF39-67D9463B1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B47F-8099-42AC-B563-29536CD0F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5611-6807-4D14-8B41-E41A0E206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73C5-03CA-48EE-9C3D-A09FBAF5C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AE46-7B79-4E14-9732-3E1ED2B42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A808-9848-4036-8982-421AC7B1C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D49B-2E06-4844-A085-04B7CEDD2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© Peter Jungbau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A64B-3BC7-454B-A306-6683792F05E4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0391-8E7F-4034-AEAE-28BA01168566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19588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Neurologische Notfälle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027760" y="2720880"/>
            <a:ext cx="4114800" cy="4132440"/>
          </a:xfrm>
          <a:prstGeom prst="diamond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Peter Jungbaue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Österr. Rotes Kreuz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Landesverband Wie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Durchblutungsstörungen 2</a:t>
            </a:r>
            <a:br>
              <a:rPr sz="4200"/>
            </a:b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 </a:t>
            </a:r>
            <a:br>
              <a:rPr sz="4200"/>
            </a:b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Apoplektischer Insul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Hämorrhagischer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Insul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ubarachnoidalblutung (SAB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15-2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Intracerebralblutung (ICB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2-5 %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Ischämischer Insul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Verschluß (70-80%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Verlegung (Einengung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von Hirnarterien bei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unzureichender Kollateralversorgu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A7C3-A50C-48D1-9499-5F819C0916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chlaganfall: Symptom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Kopfschmerz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Übelkeit, Erbrech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Sprach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Bewegungsstörungen bis zu Hemipares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Gleichgewichts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Seh- oder Hör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Veränderte Pupillenreaktio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Sensibilitätsstörung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Herdblick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Meningismu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ffekt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Bewußtseins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tem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Herzrhythmus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B2DA-647F-4DE0-B6AC-FC7D85DEC4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chlaganfall: Diagnostik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Anamnese: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Sturz, TIA in Vergangenheit, Risikofaktoren z.B. Arterioskleros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Symptomatik: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Blutdruck:</a:t>
            </a: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d4d4d"/>
                </a:solidFill>
                <a:latin typeface="Tahoma"/>
              </a:rPr>
              <a:t>Hoch : V.a. SAB, ICB, oder Mb. Menière</a:t>
            </a:r>
            <a:endParaRPr b="0" lang="en-US" sz="15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d4d4d"/>
                </a:solidFill>
                <a:latin typeface="Tahoma"/>
              </a:rPr>
              <a:t>Tief: Ischämischer Insult</a:t>
            </a:r>
            <a:endParaRPr b="0" lang="en-US" sz="15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Pupillenreaktion, Herdblick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Orientierung (zeitlich, örtlich, persönlich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Sprachstörungen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Symmetrie (Lähmungserscheinungen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Tahoma"/>
              </a:rPr>
              <a:t>Gleichgewicht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DD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SHT, Hypoglykämie, Mb. Menière, Tumor, Intoxikation, Meningitis, Encephalitis, St.p. cerebralem Krampfanfal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B2E1-A82A-4ABC-BFF4-00F44EA5E9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chlaganfall: San-Maßnahm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ZIEL: Verminderung neurologischer Schäde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Oberkörperhochlagerung 30° </a:t>
            </a:r>
            <a:br>
              <a:rPr sz="2400"/>
            </a:b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evtl. mit prophylaktischer Seitenlage </a:t>
            </a:r>
            <a:br>
              <a:rPr sz="2400"/>
            </a:b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(nicht auf gelähmte Seite - Durchblutung!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O</a:t>
            </a:r>
            <a:r>
              <a:rPr b="0" lang="de-DE" sz="2400" spc="-1" strike="noStrike" baseline="-25000">
                <a:solidFill>
                  <a:srgbClr val="4d4d4d"/>
                </a:solidFill>
                <a:latin typeface="Tahoma"/>
              </a:rPr>
              <a:t>2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-Inhalation 6-8 l/mi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Vitalfunktionen überwachen (Atmung, Puls,</a:t>
            </a:r>
            <a:br>
              <a:rPr sz="2400"/>
            </a:b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O</a:t>
            </a:r>
            <a:r>
              <a:rPr b="0" lang="de-DE" sz="2400" spc="-1" strike="noStrike" baseline="-25000">
                <a:solidFill>
                  <a:srgbClr val="4d4d4d"/>
                </a:solidFill>
                <a:latin typeface="Tahoma"/>
              </a:rPr>
              <a:t>2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-Sättigung, Blutdruck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NOTARZTINDIKATIO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troke-Unit anforder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4A99-D3F8-41CD-90A3-0A614CB818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Schlaganfall: Notarzt-Maßnahmen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Fortsetzung der SanHilfe-Maßnahm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Venöser Zugang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Bei RR&gt;200 mmHg systol. oder RR&gt;110 mmHg diastol.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Blutdrucksenkung um 20 % 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Med: Nitro, Nifedipin (Buconif</a:t>
            </a:r>
            <a:r>
              <a:rPr b="0" lang="de-DE" sz="1800" spc="-1" strike="noStrike" baseline="30000">
                <a:solidFill>
                  <a:srgbClr val="4d4d4d"/>
                </a:solidFill>
                <a:latin typeface="Tahoma"/>
              </a:rPr>
              <a:t>®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), Ebrantil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CAVE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Gehirnperfusionsdruck muß erhalten bleiben!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Bei Hypotonie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Volumenausgleich (Ringer)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evtl. Katecholamine (Dopamin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Ausreichende Atmung sicherstellen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(Ass. Beatmung, evtl. Intubation, Narkoseeinleitung mit Dormicum</a:t>
            </a:r>
            <a:r>
              <a:rPr b="0" lang="de-DE" sz="1800" spc="-1" strike="noStrike" baseline="30000">
                <a:solidFill>
                  <a:srgbClr val="4d4d4d"/>
                </a:solidFill>
                <a:latin typeface="Tahoma"/>
              </a:rPr>
              <a:t>®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), mäßige Hyperventilatio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evtl. Ausgleich von Herzrhythmusstörung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CAVE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kein Cortison, keinen Zucker geben (Glucose, Sorbit, Mannit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STROKE-Unit anfordern (innerhalb 12 Stunden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CC6B-2A2D-46E8-BC89-F0CE8F0BB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chlaganfall</a:t>
            </a:r>
            <a:br>
              <a:rPr sz="4200"/>
            </a:b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Weitere klinische Maßnahm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CT zum Blutungsausschluß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Perfusions- und Diffusions-MRI zur Lokalisierung des Infarktareal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Lysetherapi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24ED-951B-4029-A1C7-16B456627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Spezielle neurologische Erkrankung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Morbus Parkinson (Paralysis agitans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Tetani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Tetanu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Meningitis - Encephaliti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Poliomyelitis acut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458C-9567-43CA-B178-E638E11AC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d4d4d"/>
                </a:solidFill>
                <a:latin typeface="Tahoma"/>
              </a:rPr>
              <a:t>Parkinson Syndrom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Ursache:</a:t>
            </a: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bbau von Gehirnzellen (dopaminerge Neuronen)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uftreten v.a. bei Männern über 60 Jahre (1%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Syptome (Parkinson-Trias):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Akinese / Hypokinese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Leise Sprache, Verlangsamung, 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Fehlen der physiologischen Mitbewegung, kleine Schritte, 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kleiner werdende Schrift, Fallneigung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Rigor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Erhöhung des Muskeltonus </a:t>
            </a:r>
            <a:r>
              <a:rPr b="0" lang="de-DE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Steif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Tremor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Zittern mit ca. 4-6 Hz, wird geringer bei Bewegung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Formen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Idiopathischer Parkinson (Paralysis agitans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Symptomatisch: Arteriosklerose, Encephalitis, medikamentös, 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toxisch (Mn, CO, Methanol), traumatisch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Therapie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-Rezeptorblocker (gegen Tremor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nticholinergika, Dopaminsubstitutio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E46D-EBF8-4E1A-B418-020C78697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d4d4d"/>
                </a:solidFill>
                <a:latin typeface="Tahoma"/>
              </a:rPr>
              <a:t>Tetanie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Anfallsartige Störung d. Motorik und Sensibilitä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Ursachen:</a:t>
            </a:r>
            <a:br>
              <a:rPr sz="2400"/>
            </a:b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törung des Wasser-Elektrolyt-Haushalts (v.a. Ca) u. des Säure-Basen-Haushalts, SH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ymptome: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tonische Krämpfe, Pfötchenstellung, Streckkrämpfe, Tetaniegesicht, Sensibilitätsstörung, psychische Störung, Antriebsstörung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Bei Hypocalciämie: Ev. Verlängerung der QT-Streck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Therapie: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 Calcium (CAVE: Kontraindiziert bei Digitalis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2B00-2CE6-4054-AC9F-C37C830A9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d4d4d"/>
                </a:solidFill>
                <a:latin typeface="Tahoma"/>
              </a:rPr>
              <a:t>Kinderlähmung (Poliomyelitis acuta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Virale Infektionskrankheit, weltweit 1:100.000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Entzündung der Neurone der grauen Substanz, Störung der Blut-Hirn-Schranke, Abbau der Ganglienzell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Inkubationszeit: 3-14 Tag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Verlauf: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-289080">
              <a:spcBef>
                <a:spcPts val="4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ev. Symptomatik eines Grippalen Infekt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-289080">
              <a:spcBef>
                <a:spcPts val="4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Latenzstadium (symptomlos) einige Tag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-289080">
              <a:spcBef>
                <a:spcPts val="4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Meningitisches Stadium (schwere, typische Symptom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-289080">
              <a:spcBef>
                <a:spcPts val="4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Paretisches Stadium (1:1000): Fieber, Rückenschmerzen, Lähmungsstadium (asymmetrische Lähmungen mit fehlenden Reflexen, aber meist ohne Sensibilitätsstörung.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Bei Übergreifen auf Atem- u. Kreislaufzentrum 20-60 % Letalität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289080" indent="-289080">
              <a:spcBef>
                <a:spcPts val="4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Rückbildung der Lähmung innerhalb von 1 Jahr, oft mit bleibenden Schäd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8655-FBC7-4DA2-B50E-5D835FA210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Inhal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Anatomische Grundla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Bewußtseinsstör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Krampfanfäll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Cerebrale Durchblutungsstör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Spezielle Erkrank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FF0C-119E-4058-9AFE-31E5D22139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Anatomische Grundlag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Hirnstamm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Verlängertes Mark (1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Brücke (2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Mittelhirn (3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Zwischenhirn (4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Großhirn</a:t>
            </a: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 (5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Kleinhirn</a:t>
            </a: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 (6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88920" y="2286000"/>
          <a:ext cx="35467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286000"/>
                    <a:ext cx="3546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F26A-067B-4ABA-9CBE-6001967A2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Bewußtseinsstörung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Störungen der Bewußtseinslag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Somnolenz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Sopor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Kom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Störungen der Bewußtseinsinhalt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Verwirrthei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Desorientierung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Halluzinatione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Illusione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8900-3462-430B-ACDC-87D953AE4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</a:rPr>
              <a:t>Bewußtseinsstörungen: Ursachen</a:t>
            </a: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Blut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Raumfordernde Prozess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Stoffwechselstör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Infektion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Vergift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Erkrank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Degenerative Prozess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AA12-CEFC-4000-AEF8-E467ED911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4d4d4d"/>
                </a:solidFill>
                <a:latin typeface="Tahoma"/>
              </a:rPr>
              <a:t>Cerebrale Krampfanfäll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225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Unterscheidung nach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78000" indent="-3780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Form: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tonisch - klonisch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78000" indent="-3780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Region: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fokal - generalisier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78000" indent="-3780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Ursache: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symptomatisch - Epilepsi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8CEC-F9A4-4053-89E8-9FEC3BBBE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4d4d4d"/>
                </a:solidFill>
                <a:latin typeface="Tahoma"/>
              </a:rPr>
              <a:t>Cerebrale Krampfanfälle</a:t>
            </a:r>
            <a:br>
              <a:rPr sz="4200"/>
            </a:br>
            <a:r>
              <a:rPr b="0" lang="de-DE" sz="2800" spc="-1" strike="noStrike">
                <a:solidFill>
                  <a:srgbClr val="4d4d4d"/>
                </a:solidFill>
                <a:latin typeface="Tahoma"/>
              </a:rPr>
              <a:t>San- und NA-Maßnahmen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Schutz vor Zusatzverletzungen, Krampfanfall ablaufen lass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Abschirmen, Reizüberflutung vermeid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Stabile Seitenlage in Nachschlafphase, kein O</a:t>
            </a:r>
            <a:r>
              <a:rPr b="0" lang="de-DE" sz="2000" spc="-1" strike="noStrike" baseline="-25000">
                <a:solidFill>
                  <a:srgbClr val="4d4d4d"/>
                </a:solidFill>
                <a:latin typeface="Tahoma"/>
              </a:rPr>
              <a:t>2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!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Notarztindikation bei Grand-Mal-Anfal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Anamnese (Bek. Anfallsleiden, Alkohol, Medikamente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DD: Intoxikation, , SHT Kardiale Synkope, ICB/SAB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Bei Status epilepticus: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70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Nach Möglichkeit venöser Zugang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70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Med: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Gewacalm, Dormicum, bei Kindern Stesolid, ev. Epanutin</a:t>
            </a:r>
            <a:r>
              <a:rPr b="0" lang="de-DE" sz="1800" spc="-1" strike="noStrike" baseline="30000">
                <a:solidFill>
                  <a:srgbClr val="4d4d4d"/>
                </a:solidFill>
                <a:latin typeface="Tahoma"/>
              </a:rPr>
              <a:t>®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737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17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1700" spc="-1" strike="noStrike">
                <a:solidFill>
                  <a:srgbClr val="4d4d4d"/>
                </a:solidFill>
                <a:latin typeface="Tahoma"/>
              </a:rPr>
              <a:t>Postiktal: Infusion (Ringer)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Monitoring, ggf. Intubation und Beatmung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Stationäre Behandlung beim Erstanfall und Status epilepticus sowie Weiterbestehen von Herdsymptom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5FDC-C0EC-4210-B34F-390B7D5DF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Blutversorgung des Gehirn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09720" y="1980720"/>
            <a:ext cx="3048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Circulus arteriosus (Willis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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. carotis intern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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. basilaris (sammelt</a:t>
            </a:r>
            <a:br>
              <a:rPr sz="1800"/>
            </a:b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e. vertebrales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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. cerebri med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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. cerebri posteri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2036880"/>
          <a:ext cx="4191120" cy="36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36880"/>
                    <a:ext cx="419112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343400" y="426708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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525780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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8098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971800" y="50288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7080" y="457200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4495320"/>
            <a:ext cx="0" cy="3812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181480"/>
            <a:ext cx="152640" cy="15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7040" y="5105520"/>
            <a:ext cx="15228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71800" y="220932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35268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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7960" y="3352680"/>
            <a:ext cx="377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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4724280"/>
            <a:ext cx="30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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02920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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26708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Wingdings"/>
                <a:ea typeface="Wingdings"/>
              </a:rPr>
              <a:t>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4A8B-111D-4E58-9389-933770CDF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Durchblutungsstörungen 1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0200" indent="-34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T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ransiente 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I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schämische 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A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ttacke (TIA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0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Dauer: Minuten bis Stund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0200" indent="-34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P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rolongiertes 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r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eversibles 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i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schämisches 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n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eurologisches 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efizit (PRIND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0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Dauer: Stunden bis 2 Tag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0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020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Bei beiden Geschehnissen handelt es sich um eine vorübergehende Unterdurchblutung ohne Schädigung von Hirngewebe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FA40-D570-4736-8414-F8E8989E9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47:29Z</dcterms:created>
  <dc:creator>Peter Jungbauer</dc:creator>
  <dc:description/>
  <dc:language>en-US</dc:language>
  <cp:lastModifiedBy>Peter Jungbauer</cp:lastModifiedBy>
  <dcterms:modified xsi:type="dcterms:W3CDTF">1999-01-30T11:35:28Z</dcterms:modified>
  <cp:revision>13</cp:revision>
  <dc:subject/>
  <dc:title>Neurologische Notfälle</dc:title>
</cp:coreProperties>
</file>